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FD7-B5A6-4CB9-8A15-06999EA9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6C3-5587-4551-B5CF-128A5F38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F524E-7867-4B54-99ED-0175F9ED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61439-F217-456A-82C2-D1D93C0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8D73-62F9-440E-9AE0-676F795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5C13D-2193-492E-A724-FCEADD4E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3146C-721E-4400-BAE8-D92859D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15C52-FFB4-4A9D-A605-6CA461C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14E5-42D5-45C6-BC3B-6E27CF7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46EAE-8D9D-4BAF-9894-A89BE59A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CB56F-4B85-47C2-B08C-5EBC7726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9B0DD-64B8-4A91-B530-1C38AC63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093-6A15-4DB2-AC8D-A7D49D3A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B93CC-FDDC-412C-B8A4-530786F8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630E6-2FC9-4850-BACD-F4B43BCC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CFA3E-9F42-466F-9E54-B7A9AD4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3AB13-790D-4507-9C87-1F8A821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4CA96-2552-4EF7-AE1D-1ADFAD5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1FC93-F1E7-4AD8-86C8-88C95FF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AD756-B59E-42DB-8BD3-029DE68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346F4-0600-4A6C-8FBD-BF1C262E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1509B-29B6-4478-967E-39C4B5C5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E6618-F79C-454D-B6C3-35AD1921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9CC-DCCA-4DAF-BBDF-E3AE65BD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5EBC4-425C-4D9D-BB97-4F17E905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84985-9FAA-45A9-97D0-EEBC0857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87E6E-21C4-4F4B-9C26-CE32D116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B236-8D1C-4989-B5B3-7E050159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0210A-DF1F-48E7-9E59-3E6ED696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ED53-E51F-46BD-8AD3-87F290E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19E4-0ECB-40C1-B7BA-9CDFEFB3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97947-F185-4D87-95A3-A27C72F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287CA-7218-4407-ACA2-7CC8727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71ED6-A4C6-480B-B24D-E53F794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379-C868-46A9-9FAC-EC69E582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F24C8-ED5B-46BA-A723-6859369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4A18C-81C3-43E2-A8E6-5831E729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B5E5-5AFB-46AE-864C-BB44F447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829E3-0110-466A-B8CF-3F57370F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F76E0-36F0-4D15-B45F-5FE21B7D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BD88-59D8-4413-AD9B-17940E1B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9D8BF-0A22-42B8-9F53-47930FB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A447-96E6-478C-BFB3-F3484E45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45D2F-58BF-4779-8A9C-A556488A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BE72E-A038-4641-872F-1932D0D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0040-D911-449A-9CB1-3C684992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AC84E-6EAE-4744-B356-D196B68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1C239-5A57-40F6-8945-22C26274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2F1AF-0E1A-425E-BCEB-82EA32D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C2029-69C0-474E-BAB6-B2698D9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CB482-2384-423A-9D85-ACC0AD10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69311-F266-4C14-8A06-3632F232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55A7D-A6EB-407C-B5E0-C4C8070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6D9A8-5744-4834-B5E3-C70B1BC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8CCB1-E01D-460D-ADE6-B3483AB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E2A71-9369-49AF-AE34-8A807DBE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922-1747-4340-8D7D-053C8B2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E8D45-2D7F-4862-A14B-5FB1D254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2EEF9-AF25-4302-AF1D-B8D0BD0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66826-614E-4132-9352-C263B8C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44FDC-3A18-4E4D-99E8-F21EF8B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77C7C-8DAC-4D65-A8EB-94F80FDF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EE845-85CA-444C-B91C-E9B60E7A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A6BE6-7BC1-45CC-A520-7219276B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6C185-A8C1-43CC-9C69-966934E7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AA04F-ED33-4212-95D7-5320570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E161C-431A-4062-8800-CEFF1D3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81A-1091-4C1E-8E80-B5B9327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1156D-4457-4FF4-B5EF-1B5D99F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71E3C-1970-46DF-A99C-E2F95D5F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BF7B1-C240-4289-BF77-04C09897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0C530-ACC0-478A-9563-ED87492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A6A69-608D-4A70-8CC4-5605A1E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315A1-221C-4A87-BC5A-EB58D3F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CF7B4-214C-412D-8970-8C256D1C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001DF-E460-4511-B2E4-A7495F15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604C6-E7F2-4BB4-9C3F-9EDE9FA4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62611-A16A-4124-A600-78EF417A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4FB3-0E7F-4A89-B724-16666E42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3CD16-4C57-4068-AA3F-FC3B6070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FD254-2C08-4A79-AB6C-ADBC1624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B6A4A-53D9-479B-A13E-115DCB3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22F57-4D10-4A78-812E-343C324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3F4CE-EB8E-4487-B968-99D489F8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2B1A8-692E-49E5-BDEC-4C7F867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8CA6A-B93D-426F-8EB4-15A2DE4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26633-FFCA-4EF0-9D55-A07B4A0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ADEEE-0020-46A1-9408-F813CE20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91952-354E-4CA9-B978-B87CB067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295E-5083-4755-BF98-A31C681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822BB-033F-456C-97F5-DE480D28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A6570-D667-4CD7-A97D-ED533DBA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12B54-41DB-4D52-A5C0-2D67B28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E444B-9F96-484B-8AFA-4132AD6B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A7081-2B16-4FA3-ABF9-DEEB74B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8DD1B-5B77-478E-BDEF-16F19EE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93F0F-57ED-4CE9-9B2E-32028408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05FFA-6E69-430F-830B-9FC3B54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CB394-782E-4A7F-9FC6-94BBDF6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6939F-AFAE-409E-98BF-8EE9377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651E-8ED7-4EC5-A534-C8CC426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EE92B-F09E-4AF0-8F85-266B006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4EBF9-1A69-4AA7-96AD-3139A03F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59D64-51E7-4968-9E58-D67A264A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D5FD5-7442-4144-8F63-9FC8B1A7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A2830-BA77-4903-8C4B-67649A69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5BB7D-B5E9-4626-9FCF-0391C254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A2185-8187-417B-B983-2ED1FA66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8A9F6-EDF7-47E2-BED5-EE18EC7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AEF6D-9A95-409A-93D9-9F075F5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91A44-4E5D-4916-91BD-EA7F318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9FE-21A7-4C64-B5FC-091A81C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A08-D32F-4386-9C6D-A7241780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75312-FEAA-46E2-B7C7-143B81E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AA17B-417D-4E50-9908-BF14FC4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6D255-945C-479F-81D7-EBAAFD04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0ED7B-29EE-48D1-9171-081304C5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390C4-4540-4A22-A156-0DE15BB4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7275D-CA0C-42AB-AD5C-48A9AAFD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71142-BD38-4C28-9071-7A302FB9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07E86-B9BD-47D1-9A3B-84E3396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BDD73-3C30-4075-84D1-D952C28B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38FD1-9F23-47EB-ACEB-9FB1D04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7F4D-36F1-4B38-8DD3-EA4121F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44611-99BF-40CA-B2F5-D9552A03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57BDD-BB7F-40FD-A50B-6B65C7ED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018321-8FC4-48EC-A570-1E50B27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05F6F-E799-4D82-802C-0587D94B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63404-5130-49F3-BEF8-AD829037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E4AFE-2421-412D-B021-82BE695C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12018-C7F5-4940-83B0-941FF8C6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851F2-3B29-4495-A055-BF541F8E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24939-D5A1-4C22-B427-19C49B7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50959-0EA0-4E38-A4F8-281B7B99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153E-0FB9-4314-B4E3-127324FC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27819-5630-4E00-990E-D001B77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46E53-9D81-40F3-A8F5-BC50EAA0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AB9CF-1D1F-462E-B1D8-2CC5735F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D38EC-BEA7-476D-B417-1F00F4B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DF0D9-7B76-4503-9BB1-1C39CFE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14A2F-F2E8-4F68-AF11-443D0459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37918-7647-4CC6-946F-215630CE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10402-3A37-4A64-B71E-A992874C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C6413-0E18-497A-8886-B0399A7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772D9-645B-4806-834D-3F9C6291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AE9C-8CCD-45BB-994B-69971DD0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A7AC8-A501-4C49-83F8-A5D078C6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FC988-8DAD-4030-8602-DBEA7029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BAACF-39B7-4AF7-8FFC-89EF3174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96550-709A-4F25-A06D-46FAFCFB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CD2C0-417A-4158-A3C1-ECD29057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E6CF2-1E43-4EF3-80CE-BB75515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07269-AFBE-479C-9AE7-35ADA7C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D1792-8D78-41A8-BECA-099F047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20C51-C124-4CBC-82BA-F140F8B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97B8A-5DBE-497E-9A8C-633055FD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2C73-F738-489D-99D9-3252C493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56EE6-B0FF-4313-8AD3-26F103F9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6C929-F782-474E-85A2-FEE843B1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2916F-75FD-47DC-96F1-0B74BE9C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6214E-CBDA-4FDA-B524-2BD6243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55A19-1139-4DCE-AD78-CA255ED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47BC9-A59A-458B-BD39-9F76C0C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773B3-5BE8-48DC-B3E1-AA363B6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25DB2-A0E7-45A1-AE7B-0EDEF19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7C85CA-1CCD-4823-9001-7022720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DD5AF-00A6-42F2-8A60-3AEEC9C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56F7-9D71-477A-AF56-AF65F372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03B8D-D8F3-4B5F-93DB-D4FF3FE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ABA81-AEF1-42A5-BA99-6112F7CB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C6606-B1F9-4CA5-8217-9D6A8BA6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F6A1-A1B9-4BB1-9631-2697843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C956-0578-4170-B275-52A11E1E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F2B5-9441-4DD5-B76A-D67AB85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5D3C-9E4A-41F5-8720-A36CCAE4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53A-13D5-4D5D-9FCF-91DED902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4239-7E78-4A19-A402-7792679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3FDB-FD54-4C6A-87F1-365AE49E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66B1-841F-473C-B921-0CF4EF0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32B1-A514-412E-90A2-A1AD846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ACDC-613B-4586-97A0-AE745DA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DCF3-8A1A-4067-ADD2-A2630D68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8BF3-93B5-4714-BFAA-94BBBED7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8F31-646C-4209-BC44-E1A82A07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439F-89DA-4A51-8525-841F9F07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1FF8-FC3D-4FBB-8438-A6A1E4EC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A01-A211-4DFD-893E-841041A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38FF8-159B-4EE0-B7A5-0C206251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C57C-D177-4B39-9211-A94A512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215D-1405-4525-AE1E-A63B117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BB81-7C53-4289-93DC-66F1E01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7283-DF64-4DD5-A615-B32D186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0043-93C5-40FE-9CBB-6283D19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2C4C-6B7D-4B11-9404-8D2E6F1C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A6C5-710A-45C3-AE3B-E742E982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2043-27E7-4919-BEA4-ECBB7375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DBA1-8D84-4701-8D22-E5A5C620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C21-6557-4E1E-A361-7BB0EABB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C9B80-E073-4B1C-B0DC-082CD22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57364-A624-4312-B31D-6EAF07EC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E040-C3AF-4147-83B9-F88129FD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E480C-B44E-4D47-89DE-8B9B381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1FBA-FEC6-4406-B796-A241A0AB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AE669-1C8A-402F-9C9E-7A72766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9210-37C5-4908-BBF7-F79ED24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D62C-721A-4657-A635-41ACCAE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E59C-C64E-412B-8447-BA7D032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7ECF-68B7-48EE-8BB8-01E10FC7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ABC-DD25-4A0F-B258-69C28880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DEE2-85EE-4D0D-84B4-5AB16B0E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1621D-5513-4862-863D-8C163120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D2223-A6BB-4FE7-A172-6269E5C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8C920-12D4-4E5E-9D66-DA11CBB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0627-7AE7-4815-9623-712A478F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1BAE-DC2A-4C0A-83F5-6C2597A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374F0-FB71-4E02-877B-8BA3E73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6E79-D67C-4A51-9813-75DEE02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CE131-3E43-470B-823E-73541389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8795-A4C2-4D68-91B3-50CF535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F95-AAAC-4139-AC79-7F37553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74B6-4B98-4E68-B60D-64F5AC1F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71B8A-5306-4157-8618-FF975A04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9218-C6BD-45E5-8737-1AE308BF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94190-761E-4D1B-A354-1A4BD7AD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DC99-6868-4A33-AD77-0B92E9D8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AA9F-4349-4C4C-B503-B94B3847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6FC40-7C83-4AC1-A0B4-C0D83694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FE966-D4AE-4DD7-B7B9-2BC96F08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A4E1-F7EC-4778-BBE3-61504B9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69F2-3E65-44AD-BE2D-A430392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469-A12D-4242-9F2C-70FF0FAF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57C3-08FA-4C89-B0BC-00D013E2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FEAA-255F-4ACC-A7F6-E04411AE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D6A2-7EC5-4A46-969B-B540F056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3316D-7B38-4BA3-B86D-C77B6D96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E70A-7332-47F4-BBBF-83E08D73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B70F1-D568-4918-A37F-BF8C27E7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A6268-BA07-4908-90AB-060EEAEC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C052C-5261-4076-ABCE-FEBBBCF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83BC1-FB01-45D1-8EB3-750A08A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97A6-A54F-4671-AD67-B247AB7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107-1FF6-4AC1-A080-952654B4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8E56-BEA6-4C03-AB95-3E4505F0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87BD7-0DA5-4C73-9C9B-33C343B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1350B-0C65-4323-AAB4-FB460B8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0BA6-970D-4048-83C8-4858BFC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41DC-8D47-4D4F-8CB4-A2152662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7767-2A09-4673-8059-072E0543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7ECF-E1A5-4BA3-9F4C-FACF7AF7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C5D3-7632-4FE1-8DC2-0A508F3E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D9561-CAE0-47BD-83B7-8B5B068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6070-3B50-490A-AF94-C0BB07C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0A9-5DF8-4E74-87FA-68D1C7B5B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CE6A-5F0D-45F7-8F1B-BCA87D8A3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E03-6274-4B48-97DA-3C9FF78B7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D2EB-A592-46CE-AED6-3DCD11A19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D814-C696-42F0-A489-641DC0B52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0AC-DEFC-4F5E-98DC-918988BA2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663-A834-42B4-92B2-567B9FB313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E4F-A6C4-490D-AB40-4B9591A271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62A2-B83C-42B9-BBCC-937419E15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573-A717-4500-B557-5955B72FD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C7E-677F-4CC3-A92D-F6EB11C85E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0C5-937A-4DF9-BDE0-E508A962D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D0C1-8975-4B7B-864D-86B77A896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4CF-AA98-420D-938E-0D92EB437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C868-7AD6-4064-B880-5C3F16765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A38-E090-42C1-A1B4-0CF77EDB5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F1E-98AD-4E72-A355-22F265615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4BDD-28B5-40DA-94DE-3E3088CD4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5A6-7436-41E4-AF31-DFDD5DC6E0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CEA4-166E-4D5C-AC5D-32CADE29B3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6799-B7FF-478F-BF09-7BFD66C34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220A-C0DB-4F90-B6AA-B21AE2CA1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C965-6CC1-4554-901B-B4A84F3C0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81F4-4E7E-4227-A7FD-151C2F52A6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A2C-F584-45B3-849C-8EC4EEAF6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BEA-36AE-4545-BDB9-96DB4F35A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8C8-C586-4D84-B3E8-E4A26ABFA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12B-7CB5-4187-9823-DD1A9B37A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A25-5305-4BF8-B924-B0827918C8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45CD-7D6E-48D4-935D-F78FE5624D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D528-0203-4FEB-B43D-0962AB4DB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140-308A-4AC1-B07E-A49F9CFAC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39F-6608-402C-998C-F1B88CFA0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1C39-FB13-450E-BF85-624E593A8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24C5-2F42-49C8-8F07-7B37F2C37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CE8C-5E51-4E46-9E9C-9BE7AE7C1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138-7360-40D4-96CD-897DEB1776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7621-22A9-49BC-B9AD-12295EF21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7E5-0101-4B78-A88C-8EB0772F02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A5F1-B802-4C6C-983A-FECF38855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1280" y="2567160"/>
            <a:ext cx="899964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847800" y="2448000"/>
            <a:ext cx="7448400" cy="196200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1" descr=""/>
          <p:cNvPicPr/>
          <p:nvPr/>
        </p:nvPicPr>
        <p:blipFill>
          <a:blip r:embed="rId2"/>
          <a:stretch/>
        </p:blipFill>
        <p:spPr>
          <a:xfrm>
            <a:off x="1174680" y="2448000"/>
            <a:ext cx="447840" cy="3636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2" descr=""/>
          <p:cNvPicPr/>
          <p:nvPr/>
        </p:nvPicPr>
        <p:blipFill>
          <a:blip r:embed="rId3"/>
          <a:stretch/>
        </p:blipFill>
        <p:spPr>
          <a:xfrm>
            <a:off x="1069920" y="3497400"/>
            <a:ext cx="4478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2" descr=""/>
          <p:cNvPicPr/>
          <p:nvPr/>
        </p:nvPicPr>
        <p:blipFill>
          <a:blip r:embed="rId1"/>
          <a:stretch/>
        </p:blipFill>
        <p:spPr>
          <a:xfrm>
            <a:off x="380880" y="1862280"/>
            <a:ext cx="8382240" cy="313344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" descr=""/>
          <p:cNvPicPr/>
          <p:nvPr/>
        </p:nvPicPr>
        <p:blipFill>
          <a:blip r:embed="rId2"/>
          <a:stretch/>
        </p:blipFill>
        <p:spPr>
          <a:xfrm>
            <a:off x="1062000" y="2478240"/>
            <a:ext cx="446040" cy="36324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2" descr=""/>
          <p:cNvPicPr/>
          <p:nvPr/>
        </p:nvPicPr>
        <p:blipFill>
          <a:blip r:embed="rId3"/>
          <a:stretch/>
        </p:blipFill>
        <p:spPr>
          <a:xfrm>
            <a:off x="1062000" y="304308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3" descr=""/>
          <p:cNvPicPr/>
          <p:nvPr/>
        </p:nvPicPr>
        <p:blipFill>
          <a:blip r:embed="rId4"/>
          <a:stretch/>
        </p:blipFill>
        <p:spPr>
          <a:xfrm>
            <a:off x="1062000" y="3571920"/>
            <a:ext cx="446040" cy="36504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4" descr=""/>
          <p:cNvPicPr/>
          <p:nvPr/>
        </p:nvPicPr>
        <p:blipFill>
          <a:blip r:embed="rId5"/>
          <a:stretch/>
        </p:blipFill>
        <p:spPr>
          <a:xfrm>
            <a:off x="1062000" y="404496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5" descr=""/>
          <p:cNvPicPr/>
          <p:nvPr/>
        </p:nvPicPr>
        <p:blipFill>
          <a:blip r:embed="rId6"/>
          <a:stretch/>
        </p:blipFill>
        <p:spPr>
          <a:xfrm>
            <a:off x="1062000" y="4632480"/>
            <a:ext cx="4460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04760" y="1828800"/>
            <a:ext cx="893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111" name="组合 18436"/>
          <p:cNvGrpSpPr/>
          <p:nvPr/>
        </p:nvGrpSpPr>
        <p:grpSpPr>
          <a:xfrm>
            <a:off x="276120" y="1600200"/>
            <a:ext cx="8591760" cy="3657600"/>
            <a:chOff x="276120" y="1600200"/>
            <a:chExt cx="8591760" cy="3657600"/>
          </a:xfrm>
        </p:grpSpPr>
        <p:pic>
          <p:nvPicPr>
            <p:cNvPr id="1112" name="图片 1" descr=""/>
            <p:cNvPicPr/>
            <p:nvPr/>
          </p:nvPicPr>
          <p:blipFill>
            <a:blip r:embed="rId1"/>
            <a:stretch/>
          </p:blipFill>
          <p:spPr>
            <a:xfrm>
              <a:off x="276120" y="1600200"/>
              <a:ext cx="859176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图片 2" descr=""/>
            <p:cNvPicPr/>
            <p:nvPr/>
          </p:nvPicPr>
          <p:blipFill>
            <a:blip r:embed="rId2"/>
            <a:stretch/>
          </p:blipFill>
          <p:spPr>
            <a:xfrm>
              <a:off x="1042920" y="2031840"/>
              <a:ext cx="7489800" cy="204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4" name="直接连接符 18437"/>
          <p:cNvSpPr/>
          <p:nvPr/>
        </p:nvSpPr>
        <p:spPr>
          <a:xfrm>
            <a:off x="1258920" y="2017800"/>
            <a:ext cx="3168720" cy="2058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直接连接符 18438"/>
          <p:cNvSpPr/>
          <p:nvPr/>
        </p:nvSpPr>
        <p:spPr>
          <a:xfrm>
            <a:off x="2987640" y="2031840"/>
            <a:ext cx="0" cy="2044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直接连接符 18439"/>
          <p:cNvSpPr/>
          <p:nvPr/>
        </p:nvSpPr>
        <p:spPr>
          <a:xfrm flipH="1">
            <a:off x="1332000" y="2046240"/>
            <a:ext cx="3456000" cy="20304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直接连接符 18440"/>
          <p:cNvSpPr/>
          <p:nvPr/>
        </p:nvSpPr>
        <p:spPr>
          <a:xfrm>
            <a:off x="6804000" y="2031840"/>
            <a:ext cx="1297080" cy="2044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18441"/>
          <p:cNvSpPr/>
          <p:nvPr/>
        </p:nvSpPr>
        <p:spPr>
          <a:xfrm flipH="1">
            <a:off x="6372360" y="2017800"/>
            <a:ext cx="1800000" cy="2058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343320" y="901800"/>
            <a:ext cx="2457360" cy="5619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76280" y="2171880"/>
            <a:ext cx="8191440" cy="25146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0" descr=""/>
          <p:cNvPicPr/>
          <p:nvPr/>
        </p:nvPicPr>
        <p:blipFill>
          <a:blip r:embed="rId4"/>
          <a:stretch/>
        </p:blipFill>
        <p:spPr>
          <a:xfrm>
            <a:off x="1036800" y="25988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1036800" y="2959200"/>
            <a:ext cx="485640" cy="3618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1036800" y="343692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1036800" y="3797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1036800" y="4325760"/>
            <a:ext cx="485640" cy="3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2920" y="1266840"/>
            <a:ext cx="8858160" cy="202896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" descr=""/>
          <p:cNvPicPr/>
          <p:nvPr/>
        </p:nvPicPr>
        <p:blipFill>
          <a:blip r:embed="rId2"/>
          <a:stretch/>
        </p:blipFill>
        <p:spPr>
          <a:xfrm>
            <a:off x="142920" y="3668760"/>
            <a:ext cx="8905680" cy="20098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0" descr=""/>
          <p:cNvPicPr/>
          <p:nvPr/>
        </p:nvPicPr>
        <p:blipFill>
          <a:blip r:embed="rId3"/>
          <a:stretch/>
        </p:blipFill>
        <p:spPr>
          <a:xfrm>
            <a:off x="2878200" y="29354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" descr=""/>
          <p:cNvPicPr/>
          <p:nvPr/>
        </p:nvPicPr>
        <p:blipFill>
          <a:blip r:embed="rId4"/>
          <a:stretch/>
        </p:blipFill>
        <p:spPr>
          <a:xfrm>
            <a:off x="6222960" y="29354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5"/>
          <a:stretch/>
        </p:blipFill>
        <p:spPr>
          <a:xfrm>
            <a:off x="8015400" y="29480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3" descr=""/>
          <p:cNvPicPr/>
          <p:nvPr/>
        </p:nvPicPr>
        <p:blipFill>
          <a:blip r:embed="rId6"/>
          <a:stretch/>
        </p:blipFill>
        <p:spPr>
          <a:xfrm>
            <a:off x="4597560" y="29354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4" descr=""/>
          <p:cNvPicPr/>
          <p:nvPr/>
        </p:nvPicPr>
        <p:blipFill>
          <a:blip r:embed="rId7"/>
          <a:stretch/>
        </p:blipFill>
        <p:spPr>
          <a:xfrm>
            <a:off x="1193760" y="29480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5" descr=""/>
          <p:cNvPicPr/>
          <p:nvPr/>
        </p:nvPicPr>
        <p:blipFill>
          <a:blip r:embed="rId8"/>
          <a:stretch/>
        </p:blipFill>
        <p:spPr>
          <a:xfrm>
            <a:off x="1193760" y="5318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" descr=""/>
          <p:cNvPicPr/>
          <p:nvPr/>
        </p:nvPicPr>
        <p:blipFill>
          <a:blip r:embed="rId9"/>
          <a:stretch/>
        </p:blipFill>
        <p:spPr>
          <a:xfrm>
            <a:off x="2986200" y="5318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"/>
          <p:cNvPicPr/>
          <p:nvPr/>
        </p:nvPicPr>
        <p:blipFill>
          <a:blip r:embed="rId10"/>
          <a:stretch/>
        </p:blipFill>
        <p:spPr>
          <a:xfrm>
            <a:off x="4767120" y="5318280"/>
            <a:ext cx="486000" cy="36036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8" descr=""/>
          <p:cNvPicPr/>
          <p:nvPr/>
        </p:nvPicPr>
        <p:blipFill>
          <a:blip r:embed="rId11"/>
          <a:stretch/>
        </p:blipFill>
        <p:spPr>
          <a:xfrm>
            <a:off x="6391440" y="5318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9" descr=""/>
          <p:cNvPicPr/>
          <p:nvPr/>
        </p:nvPicPr>
        <p:blipFill>
          <a:blip r:embed="rId12"/>
          <a:stretch/>
        </p:blipFill>
        <p:spPr>
          <a:xfrm>
            <a:off x="8220240" y="5318280"/>
            <a:ext cx="485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380880" y="1819440"/>
            <a:ext cx="8382240" cy="32191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10" descr=""/>
          <p:cNvPicPr/>
          <p:nvPr/>
        </p:nvPicPr>
        <p:blipFill>
          <a:blip r:embed="rId2"/>
          <a:stretch/>
        </p:blipFill>
        <p:spPr>
          <a:xfrm>
            <a:off x="917640" y="23702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1" descr=""/>
          <p:cNvPicPr/>
          <p:nvPr/>
        </p:nvPicPr>
        <p:blipFill>
          <a:blip r:embed="rId3"/>
          <a:stretch/>
        </p:blipFill>
        <p:spPr>
          <a:xfrm>
            <a:off x="917640" y="3019320"/>
            <a:ext cx="485640" cy="36216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" descr=""/>
          <p:cNvPicPr/>
          <p:nvPr/>
        </p:nvPicPr>
        <p:blipFill>
          <a:blip r:embed="rId4"/>
          <a:stretch/>
        </p:blipFill>
        <p:spPr>
          <a:xfrm>
            <a:off x="1000080" y="3573360"/>
            <a:ext cx="486000" cy="3603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3" descr=""/>
          <p:cNvPicPr/>
          <p:nvPr/>
        </p:nvPicPr>
        <p:blipFill>
          <a:blip r:embed="rId5"/>
          <a:stretch/>
        </p:blipFill>
        <p:spPr>
          <a:xfrm>
            <a:off x="1000080" y="4151160"/>
            <a:ext cx="486000" cy="3603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4" descr=""/>
          <p:cNvPicPr/>
          <p:nvPr/>
        </p:nvPicPr>
        <p:blipFill>
          <a:blip r:embed="rId6"/>
          <a:stretch/>
        </p:blipFill>
        <p:spPr>
          <a:xfrm>
            <a:off x="1000080" y="4678200"/>
            <a:ext cx="4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1280" y="1114560"/>
            <a:ext cx="8999640" cy="462888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28675" descr=""/>
          <p:cNvPicPr/>
          <p:nvPr/>
        </p:nvPicPr>
        <p:blipFill>
          <a:blip r:embed="rId2"/>
          <a:stretch/>
        </p:blipFill>
        <p:spPr>
          <a:xfrm>
            <a:off x="96840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1" descr=""/>
          <p:cNvPicPr/>
          <p:nvPr/>
        </p:nvPicPr>
        <p:blipFill>
          <a:blip r:embed="rId3"/>
          <a:stretch/>
        </p:blipFill>
        <p:spPr>
          <a:xfrm>
            <a:off x="295920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2" descr=""/>
          <p:cNvPicPr/>
          <p:nvPr/>
        </p:nvPicPr>
        <p:blipFill>
          <a:blip r:embed="rId4"/>
          <a:stretch/>
        </p:blipFill>
        <p:spPr>
          <a:xfrm>
            <a:off x="548640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" descr=""/>
          <p:cNvPicPr/>
          <p:nvPr/>
        </p:nvPicPr>
        <p:blipFill>
          <a:blip r:embed="rId5"/>
          <a:stretch/>
        </p:blipFill>
        <p:spPr>
          <a:xfrm>
            <a:off x="748332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4" descr=""/>
          <p:cNvPicPr/>
          <p:nvPr/>
        </p:nvPicPr>
        <p:blipFill>
          <a:blip r:embed="rId6"/>
          <a:stretch/>
        </p:blipFill>
        <p:spPr>
          <a:xfrm>
            <a:off x="96840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5" descr=""/>
          <p:cNvPicPr/>
          <p:nvPr/>
        </p:nvPicPr>
        <p:blipFill>
          <a:blip r:embed="rId7"/>
          <a:stretch/>
        </p:blipFill>
        <p:spPr>
          <a:xfrm>
            <a:off x="295920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" descr=""/>
          <p:cNvPicPr/>
          <p:nvPr/>
        </p:nvPicPr>
        <p:blipFill>
          <a:blip r:embed="rId8"/>
          <a:stretch/>
        </p:blipFill>
        <p:spPr>
          <a:xfrm>
            <a:off x="548640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7" descr=""/>
          <p:cNvPicPr/>
          <p:nvPr/>
        </p:nvPicPr>
        <p:blipFill>
          <a:blip r:embed="rId9"/>
          <a:stretch/>
        </p:blipFill>
        <p:spPr>
          <a:xfrm>
            <a:off x="748332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8" descr=""/>
          <p:cNvPicPr/>
          <p:nvPr/>
        </p:nvPicPr>
        <p:blipFill>
          <a:blip r:embed="rId10"/>
          <a:stretch/>
        </p:blipFill>
        <p:spPr>
          <a:xfrm>
            <a:off x="968400" y="496080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9" descr=""/>
          <p:cNvPicPr/>
          <p:nvPr/>
        </p:nvPicPr>
        <p:blipFill>
          <a:blip r:embed="rId11"/>
          <a:stretch/>
        </p:blipFill>
        <p:spPr>
          <a:xfrm>
            <a:off x="2959200" y="4960800"/>
            <a:ext cx="122400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676440" y="1919160"/>
            <a:ext cx="7791120" cy="30196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1" descr=""/>
          <p:cNvPicPr/>
          <p:nvPr/>
        </p:nvPicPr>
        <p:blipFill>
          <a:blip r:embed="rId2"/>
          <a:stretch/>
        </p:blipFill>
        <p:spPr>
          <a:xfrm>
            <a:off x="1257480" y="287964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2" descr=""/>
          <p:cNvPicPr/>
          <p:nvPr/>
        </p:nvPicPr>
        <p:blipFill>
          <a:blip r:embed="rId3"/>
          <a:stretch/>
        </p:blipFill>
        <p:spPr>
          <a:xfrm>
            <a:off x="1257480" y="4137120"/>
            <a:ext cx="5522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743040" y="1604880"/>
            <a:ext cx="7657920" cy="364824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1" descr=""/>
          <p:cNvPicPr/>
          <p:nvPr/>
        </p:nvPicPr>
        <p:blipFill>
          <a:blip r:embed="rId2"/>
          <a:stretch/>
        </p:blipFill>
        <p:spPr>
          <a:xfrm>
            <a:off x="1058760" y="203040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2" descr=""/>
          <p:cNvPicPr/>
          <p:nvPr/>
        </p:nvPicPr>
        <p:blipFill>
          <a:blip r:embed="rId3"/>
          <a:stretch/>
        </p:blipFill>
        <p:spPr>
          <a:xfrm>
            <a:off x="1058760" y="324792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3" descr=""/>
          <p:cNvPicPr/>
          <p:nvPr/>
        </p:nvPicPr>
        <p:blipFill>
          <a:blip r:embed="rId4"/>
          <a:stretch/>
        </p:blipFill>
        <p:spPr>
          <a:xfrm>
            <a:off x="1058760" y="4578480"/>
            <a:ext cx="446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262080" y="2200320"/>
            <a:ext cx="8618400" cy="245736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1" descr=""/>
          <p:cNvPicPr/>
          <p:nvPr/>
        </p:nvPicPr>
        <p:blipFill>
          <a:blip r:embed="rId2"/>
          <a:stretch/>
        </p:blipFill>
        <p:spPr>
          <a:xfrm>
            <a:off x="2201760" y="4195800"/>
            <a:ext cx="890640" cy="3636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2" descr=""/>
          <p:cNvPicPr/>
          <p:nvPr/>
        </p:nvPicPr>
        <p:blipFill>
          <a:blip r:embed="rId3"/>
          <a:stretch/>
        </p:blipFill>
        <p:spPr>
          <a:xfrm>
            <a:off x="4764240" y="4195800"/>
            <a:ext cx="1325520" cy="36360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4" descr=""/>
          <p:cNvPicPr/>
          <p:nvPr/>
        </p:nvPicPr>
        <p:blipFill>
          <a:blip r:embed="rId4"/>
          <a:stretch/>
        </p:blipFill>
        <p:spPr>
          <a:xfrm>
            <a:off x="7664400" y="4195800"/>
            <a:ext cx="10717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709560" y="1042920"/>
            <a:ext cx="7723080" cy="477216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" descr=""/>
          <p:cNvPicPr/>
          <p:nvPr/>
        </p:nvPicPr>
        <p:blipFill>
          <a:blip r:embed="rId2"/>
          <a:stretch/>
        </p:blipFill>
        <p:spPr>
          <a:xfrm>
            <a:off x="1314360" y="1600200"/>
            <a:ext cx="447840" cy="36360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3" descr=""/>
          <p:cNvPicPr/>
          <p:nvPr/>
        </p:nvPicPr>
        <p:blipFill>
          <a:blip r:embed="rId3"/>
          <a:stretch/>
        </p:blipFill>
        <p:spPr>
          <a:xfrm>
            <a:off x="1314360" y="3321000"/>
            <a:ext cx="447840" cy="36504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4" descr=""/>
          <p:cNvPicPr/>
          <p:nvPr/>
        </p:nvPicPr>
        <p:blipFill>
          <a:blip r:embed="rId4"/>
          <a:stretch/>
        </p:blipFill>
        <p:spPr>
          <a:xfrm>
            <a:off x="1314360" y="4986360"/>
            <a:ext cx="4478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20:3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